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BB32-B75B-494B-AF9D-B0574ACF7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64B-DF89-4356-B2CF-580D77A1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41A-6C87-49F4-B02A-377C6D4E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7C3-E66C-404B-80D4-23B33766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A0F-9DA0-41F9-8419-F4314B2F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06F-1DBD-42EE-9535-24E35B35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1E7-D8A4-4BD4-84D2-BE516C50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F81-BF82-4ACE-ADCD-13597FEE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FD9-9ED0-4164-8F5A-0F0351D7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172-EA91-4F6B-AF5D-5821D39C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962-E7F7-49AF-A74E-90C5F721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047-2D37-44FF-9E04-74DEE6D9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D37-691B-4DD8-9263-F9EC79A5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lly Kirby &amp; Linda Mangia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29400" y="6172200"/>
            <a:ext cx="1828800" cy="523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441972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Think back to the “ other perspective” breakout groups from last week.  What did you learn that you used/or could use in the last we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aborative Reflection 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676520"/>
            <a:ext cx="701028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flect on the comments left on your lesson with your planning partn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f suggestions could be implem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your thoughts in your reflection bi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43:10Z</dcterms:created>
  <dc:creator>fcps</dc:creator>
  <dc:description/>
  <dc:language>en-US</dc:language>
  <cp:lastModifiedBy>FCPS</cp:lastModifiedBy>
  <dcterms:modified xsi:type="dcterms:W3CDTF">2009-02-27T21:07:43Z</dcterms:modified>
  <cp:revision>14</cp:revision>
  <dc:subject/>
  <dc:title>Making it Work for You and Your Students</dc:title>
</cp:coreProperties>
</file>